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move the slide</a:t>
            </a:r>
            <a:endParaRPr b="0" lang="en-US" sz="3200" spc="-1" strike="noStrike">
              <a:solidFill>
                <a:srgbClr val="000000"/>
              </a:solidFill>
              <a:latin typeface="Gill Sans MT"/>
            </a:endParaRPr>
          </a:p>
        </p:txBody>
      </p:sp>
      <p:sp>
        <p:nvSpPr>
          <p:cNvPr id="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CA40B-99DB-49F0-BDF4-C2257289A975}" type="slidenum">
              <a:rPr b="0" lang="sl-SI"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33B13-0BA1-4D54-8FA0-274E35CC94B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627A1-6AB9-4ED9-9074-FC9C378A6E9C}"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A14C2-2E22-4F19-B941-CEC3CF50F185}"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F3CB5-01AA-45F8-AA97-81F75E67150E}"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BAD6B-680B-4F4D-88EC-0625AAD2F4C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BCE92-86C0-4E63-B8E4-9E839ED9BC77}"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D96BE-82B0-4D8E-8C20-BCD42437B855}"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FC22F-246A-4ED3-B3CD-2DAADCF6A82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447F0-94A9-4280-B927-B589785F433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948F0-6D24-46E9-8408-09EDB8C7D74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BB56B-64F2-4FB4-A08F-E5FC81778892}"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E6ADF-4F83-4583-9157-7360DC51AE41}"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275D9-45CF-4153-9668-45D3D97FC8A8}"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E0D78-865C-445E-81D2-7BEA617467E1}"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5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8B8EF-6FE4-4350-8225-EBCBDEE2AA8B}"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4DDF0-09BB-4AF3-8944-2A87BCE300AC}"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AE75C-A3B8-496D-865D-460996160A71}"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15361-90BC-4256-9579-266C43BA15F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DFCB8-209D-4DDF-AD49-59EE3562D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FB058-CF6F-4ACD-89A8-C9517AC8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1CABE3-A173-4B20-9FD9-DD13D1FB6F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C087D-D278-4419-8122-C90D87FF9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D3871-F5F5-4641-9006-21911E29E6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C04B7-E719-4CB7-A842-D538C9B8B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87754-CDAC-42A5-867E-1563896F0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153B0-B90D-4722-8F19-B74F8919D1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9849D-24E7-471D-B583-3A9289DCE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CFFFD2-9413-47C5-BD04-9EF67EBF4A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9B0BA9-448F-425B-BD1F-E912652EA9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4317E3-A8D6-4150-BA6A-61DD4E4443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76080-9905-4CEC-8C3E-24856D541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43B46E-5636-4338-90DC-B0FDA02E8B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7E5EDD-AE5C-484D-9FA2-69099CB8E9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9A3D2B-C45B-4002-A936-EE31A0019F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C7B9C8-8F06-4EF1-B726-41E3849BA5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7103C9-64B3-4166-905A-FA9C77A9DB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678322-CF7B-432D-B193-367D7932E3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82E287-29D0-41F0-B198-07A5BAA71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D141E8-D402-4370-B8BA-9F3324696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480440-5E2D-42CC-AB23-23CFF9520D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7A0776-DCD9-402B-B356-579D883792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91556-9EAF-45EA-BA8B-1521ED67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B90A07-CB47-4961-804C-43001EA0F7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15AB52-C1A2-4AD4-940D-D387439B1F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B3029-1D63-4E17-8CA7-E0AC118AE2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BB63A2-8832-4F3F-8F49-770D371B3D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6682C-E6F0-4EB6-9125-81A11670AA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09E565-D9A0-4797-BC92-044C79CF89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1BE156-1642-4E52-903F-A2C2E44880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E7DADB-51F0-4719-9FB2-C88BAA7025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80A1B7-2596-460E-BE49-331A5D031A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770C2A-D748-4D3E-81A1-6EF5384998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9A77C-D93F-4FBF-8351-7D9B6FFFC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0F766D-E3F0-4A53-A761-905C0EC69C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AB31CE-9185-4C83-8FE3-59809466FA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76123A-863B-4598-8948-B3ABC46EE4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8DE9E-DEDB-4238-AE7D-3095A13FE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97887-AD2F-4EC6-923A-1B8929779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4CC19-1115-42C6-8599-DD54BD28A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CDF96-E4B0-4588-8E04-7C58AEB52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AAB14-A02F-4E8C-9566-C430922F7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895F9-9E20-495D-8555-5F9E18C93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8036-937F-45AF-99E1-30F17E8A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BC75E-E7A9-474A-80B8-A9EA01D4D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E7BF7-02EE-4FDA-89AF-BA25DABAD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B2BDA-4CEB-4072-BC62-28D525B00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55D77-CCDA-40AA-B70A-7418CD44B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FB45E-3484-4640-806C-1418AFE69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090B90-ED7F-4C07-8902-DA4C251EE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B7933-7376-439C-9E19-8FD07F734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FF76D-080A-435C-A500-97D14B82A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3AE15-EA9F-4806-A72B-E5EA7AE60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BD075-0D1D-459F-8CFC-791C3C502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71319-1ECF-405B-94CF-50DA7CCB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E8392-2E2F-4F63-A1AA-4F62B87DA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8D6B3-83D1-4B15-AAA5-D1940A3CA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42396-EBFD-49CA-9B0E-8CEC8D9D9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5D15A-3792-4E2C-B1A0-927988E1B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B561F-5BA6-4BD0-AA49-B00183D59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0D70D6-5731-4D28-8DBB-02365865EC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538665-143A-4575-B6F5-D66B9BE23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AD64D-9DB4-4A9A-BC76-B8568A4D19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64C23-AE9D-4EE8-A831-E127CD123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45B83-351F-438A-B75D-AFBA65602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EC106-0D19-4321-85B8-AB63B7EE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2538E-1485-40EE-9FE1-20465B871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BE59A-06FE-4E15-9E40-3DAD0F26F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987AE-982B-473B-87BF-0275616B1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73471-AD03-4550-A6D1-56B11E40C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CE58D-B0CE-4F7E-B731-8D48D7CEC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6AE13-C8AC-4225-92A7-67769FD51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41FBC-464F-44E2-85C0-7FCB6E8E2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DB033-E4F0-4B12-8511-FFC1FC5DA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DE1E9-382B-40E2-AEDA-6C0E5B3AF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59F30C-C728-47FE-8412-C6BD31447E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73A5-3F98-43D3-B212-3F5619FC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6801E-EC50-43B7-8546-50193806E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1F8D8-CF7C-487F-BA4A-915358092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533001-4D02-448B-8D6E-740893FAE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29A81-0EB5-4588-884A-B3CC7E60F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7FC30-81AC-4D39-AA2E-4C5EC8C89E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F28E1-507D-4E00-BCD7-6DF2EE6AF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AD75B-0A73-48EF-A118-0716F0250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8A304-DE60-43CE-8352-99698BA86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94C98-6155-4FDF-9E45-AA1DC91F2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90D90B-F5D3-4FC9-902C-ED217F3A8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64F9-5C75-4F8F-9EB6-F7136FB9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D91FF-62EB-40B9-A5B6-1959A975ED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2CE4F6-02B8-45F7-8550-F28866CD5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61ED1-4B7C-47B2-BAD8-34E709A19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BF76E-0A6B-4212-8C8F-9B0A4E2B8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F950B-C69E-4D39-8764-2C04DC3D7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2CE95-EF5C-42FF-9346-FBB4644C5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EAAE8-2469-4186-8699-673D36E93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58ABB-FA64-4C48-91D2-4482E0521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980DE-9D45-49DD-BD60-A21B0AE20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AE335-1B20-47FB-98B6-FCE93EA55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70CD-9002-4FA1-919D-7D35C7ADA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C9867-D83B-4551-A719-8F7C7B598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216E9E-0040-4CCD-9DCA-F788DCC44A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6587A9-9C84-45EB-852D-0AC1BA596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5EBA75-F73D-4098-A412-D3AE337605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912CF4-BF7E-445D-9EEC-ED762E176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AFA16-3501-41F5-B9AD-BED52C442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99B44-7A97-48D6-B369-42FBED00B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F7083-7544-4A30-BC4A-F3F4EA119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6C7E7-88E6-4CF8-A02A-2DD6DD12E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3C614-33B9-413E-8C05-B18C6634A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CF4D-3DD2-4BA8-AEC0-B917E606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B8A48-58C3-40EA-A22F-B53F544EF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E8DEF-B788-4809-8DDC-98D410662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443AF-F807-48F1-9165-A0B9EF413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3A4339-3D68-4455-8116-BFFDD69CF3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29ADD4-DB1D-4DD5-87C6-10A3358488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C3A8A3-768B-42E4-803E-D8C80FFFF9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2206C-36DE-4B61-8E14-4A1D8A62D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0D60E-119D-4B06-916D-2CD4ACFD7F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75258-E393-4121-B331-3746F94AA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36358-A72B-4F1D-8AF0-C1E26B5064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E86FC-C129-4C76-8D48-930A886C3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763A2-C9C5-44F1-8D22-44199FEF5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827ED-C87C-4EC8-8E15-7C35224A7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14780-5906-4297-9127-B84B4EE35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8FAE8-F05B-49DA-8020-F59FCB5F4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3997C-7B52-4DC9-89DF-9EC18E2567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017866-9ADA-43CA-812A-569B1C78C6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759C0E-3249-4D89-8B9F-C696A241D5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06916D-1E6D-49B5-9316-3A1761500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E68FA-9C76-4382-BE78-E6E013811D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6FD87B-19AF-4E1D-9CBD-42AAAAFB45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AD855-A4E3-486B-9637-0120D5705075}"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08A17-093A-4642-B9E7-1F1F51C579EC}"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A3A25-6613-4841-98F2-AB1F1CD5E014}"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514A4-D36D-444D-8475-C516F82BAFBF}"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4BCB0-5189-4874-A8EC-53C279BFA538}"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3F7C5-DB59-4B81-8DB7-0C6E8C8F20BF}"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5F788-E941-4564-9A2A-123182174A07}"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294F7-89A3-4736-9CE9-B8DF37F9AD8D}"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46038-F1F5-47C0-AE09-8FC1D44576E4}"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A9F8D-F866-4987-8718-15C348281F9D}"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840"/>
              <a:ext cx="2793600" cy="4326840"/>
              <a:chOff x="5346360" y="771840"/>
              <a:chExt cx="2793600" cy="4326840"/>
            </a:xfrm>
          </p:grpSpPr>
          <p:pic>
            <p:nvPicPr>
              <p:cNvPr id="367" name="Rectangle 14"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BF990-F081-4438-B86E-8C02365C0C54}"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8.png"/><Relationship Id="rId5" Type="http://schemas.openxmlformats.org/officeDocument/2006/relationships/slideLayout" Target="../slideLayouts/slideLayout7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2.png"/><Relationship Id="rId5" Type="http://schemas.openxmlformats.org/officeDocument/2006/relationships/slideLayout" Target="../slideLayouts/slideLayout7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09" name="Naslov 1"/>
          <p:cNvGrpSpPr/>
          <p:nvPr/>
        </p:nvGrpSpPr>
        <p:grpSpPr>
          <a:xfrm>
            <a:off x="500040" y="1017720"/>
            <a:ext cx="7851960" cy="4462200"/>
            <a:chOff x="500040" y="1017720"/>
            <a:chExt cx="7851960" cy="4462200"/>
          </a:xfrm>
        </p:grpSpPr>
        <p:pic>
          <p:nvPicPr>
            <p:cNvPr id="510" name="Naslov 1" descr=""/>
            <p:cNvPicPr/>
            <p:nvPr/>
          </p:nvPicPr>
          <p:blipFill>
            <a:blip r:embed="rId1"/>
            <a:stretch/>
          </p:blipFill>
          <p:spPr>
            <a:xfrm>
              <a:off x="500040" y="1017720"/>
              <a:ext cx="7851960" cy="4462200"/>
            </a:xfrm>
            <a:prstGeom prst="rect">
              <a:avLst/>
            </a:prstGeom>
            <a:ln w="0">
              <a:noFill/>
            </a:ln>
          </p:spPr>
        </p:pic>
        <p:sp>
          <p:nvSpPr>
            <p:cNvPr id="511" name=""/>
            <p:cNvSpPr/>
            <p:nvPr/>
          </p:nvSpPr>
          <p:spPr>
            <a:xfrm>
              <a:off x="539640" y="1052640"/>
              <a:ext cx="777240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7200" spc="-1" strike="noStrike">
                  <a:solidFill>
                    <a:srgbClr val="fa2b5c"/>
                  </a:solidFill>
                  <a:latin typeface="Calibri"/>
                </a:rPr>
                <a:t>OŠ STIČNA POSLOVNO POROČILO </a:t>
              </a:r>
              <a:br>
                <a:rPr sz="7200"/>
              </a:br>
              <a:r>
                <a:rPr b="1" lang="sl-SI" sz="7200" spc="-1" strike="noStrike">
                  <a:solidFill>
                    <a:srgbClr val="fa2b5c"/>
                  </a:solidFill>
                  <a:latin typeface="Calibri"/>
                </a:rPr>
                <a:t>za leto 2018 </a:t>
              </a:r>
              <a:endParaRPr b="0" lang="en-US" sz="72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800" spc="-1" strike="noStrike">
                  <a:solidFill>
                    <a:srgbClr val="fa2b5c"/>
                  </a:solidFill>
                  <a:latin typeface="Calibri"/>
                </a:rPr>
                <a:t>Iv. Gorica, 22. 2. 2019</a:t>
              </a:r>
              <a:endParaRPr b="0" lang="en-US" sz="4800" spc="-1" strike="noStrike">
                <a:solidFill>
                  <a:srgbClr val="000000"/>
                </a:solidFill>
                <a:latin typeface="Gill Sans MT"/>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ravokotnik 2"/>
          <p:cNvSpPr/>
          <p:nvPr/>
        </p:nvSpPr>
        <p:spPr>
          <a:xfrm>
            <a:off x="2286000" y="4748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31" name="Pravokotnik 3"/>
          <p:cNvSpPr/>
          <p:nvPr/>
        </p:nvSpPr>
        <p:spPr>
          <a:xfrm>
            <a:off x="358920" y="115920"/>
            <a:ext cx="84247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Zdravstveni inšpektorat RS</a:t>
            </a:r>
            <a:r>
              <a:rPr b="0" lang="sl-SI" sz="1600" spc="-1" strike="noStrike">
                <a:solidFill>
                  <a:srgbClr val="000000"/>
                </a:solidFill>
                <a:latin typeface="Calibri"/>
                <a:ea typeface="Times New Roman"/>
              </a:rPr>
              <a:t>, OE Novo mesto je dne 5. 4. 2018 opravil redni inšpekcijski pregled na </a:t>
            </a:r>
            <a:r>
              <a:rPr b="1" lang="sl-SI" sz="1600" spc="-1" strike="noStrike">
                <a:solidFill>
                  <a:srgbClr val="000000"/>
                </a:solidFill>
                <a:latin typeface="Calibri"/>
                <a:ea typeface="Times New Roman"/>
              </a:rPr>
              <a:t>PŠ Muljava.</a:t>
            </a:r>
            <a:r>
              <a:rPr b="0" lang="sl-SI" sz="1600" spc="-1" strike="noStrike">
                <a:solidFill>
                  <a:srgbClr val="000000"/>
                </a:solidFill>
                <a:latin typeface="Calibri"/>
                <a:ea typeface="Times New Roman"/>
              </a:rPr>
              <a:t> Pregledana je bila dokumentacija in stanje na področju izvajanja ukrepov za preprečevanje razmnoževanja legionel v hišnem vodovodnem omrežju, zagotavljanje tople vode, pregledani so bili vsi prostori šole. Izdana je bila ureditvena odločba za izdelavo in vodenje dokumentacije za preprečevanja razmnoževanja legionel  po novih priporočilih NIJZ,  ureditev površin za odlaganje obutve v garderobah za učence in poskrbeti, da bodo v vseh prostorih šole stenske površine nepoškodovane in prebeljene. Vse pomanjkljivosti smo v zahtevanih rokih odpravili.</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c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Inšpekcija za varno hrano, veterinarstvo in varstvo rastlin, OU </a:t>
            </a:r>
            <a:r>
              <a:rPr b="0" lang="sl-SI" sz="1600" spc="-1" strike="noStrike">
                <a:solidFill>
                  <a:srgbClr val="000000"/>
                </a:solidFill>
                <a:latin typeface="Calibri"/>
                <a:ea typeface="Times New Roman"/>
              </a:rPr>
              <a:t>Ljubljana je po uradni dolžnosti dne 1. 10. 2018 opravil inšpekcijski nadzor kuhinje na matični šoli. Namen pregleda je bil preverjanje skladnosti z zakonodajo na področju higiene, varnosti in splošnega označevanja živil. Nepravilnosti niso bile ugotovljene.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Notranjo revizijo poslovanja za leto 2017</a:t>
            </a:r>
            <a:r>
              <a:rPr b="0" lang="sl-SI" sz="1600" spc="-1" strike="noStrike">
                <a:solidFill>
                  <a:srgbClr val="000000"/>
                </a:solidFill>
                <a:latin typeface="Calibri"/>
                <a:ea typeface="Times New Roman"/>
              </a:rPr>
              <a:t> je opravilo podjetje CPA Perner d.o.o v času od 15. 10. 2018 do 18. 10. 2018. Predmet notranjega revidiranja so bili dokumenti in evidence, kot sestavine procesov, ki naj zagotavljajo ustrezno revizijsko sled (izkaz prihodkov in odhodkov, bilanca stanja, sprejem letnega finančnega načrta, sprejem letnega poročila). Revizor ugotavlja, da je bilo poslovanje OŠ Stična v skladu s predpisi, še posebej pa je poudaril, da je pri opravljanju notranje revizije naletel na korektno sodelovanje osebja OŠ, da je finančno poslovodenje kot obveznost ravnateljstva in zanesljivost izvajanja računovodske funkcije na zelo visoki ravni, zato v letu 2017 niso obstajala tveganja nepravilne uporabe predpisov in neupravičene rabe sredstev zunaj namenov poslovnega procesa OŠ. Revizor v zaključku izraža </a:t>
            </a:r>
            <a:r>
              <a:rPr b="1" lang="sl-SI" sz="1600" spc="-1" strike="noStrike">
                <a:solidFill>
                  <a:srgbClr val="000000"/>
                </a:solidFill>
                <a:latin typeface="Calibri"/>
                <a:ea typeface="Times New Roman"/>
              </a:rPr>
              <a:t>ugodno (pozitivno) mnenje</a:t>
            </a:r>
            <a:r>
              <a:rPr b="0" lang="sl-SI" sz="1600" spc="-1" strike="noStrike">
                <a:solidFill>
                  <a:srgbClr val="000000"/>
                </a:solidFill>
                <a:latin typeface="Calibri"/>
                <a:ea typeface="Times New Roman"/>
              </a:rPr>
              <a:t> o poslovanju OŠ Stična v letu 2017.</a:t>
            </a:r>
            <a:endParaRPr b="0" lang="en-US" sz="1600" spc="-1" strike="noStrike">
              <a:solidFill>
                <a:srgbClr val="000000"/>
              </a:solidFill>
              <a:latin typeface="Gill Sans MT"/>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2" name=""/>
          <p:cNvGraphicFramePr/>
          <p:nvPr/>
        </p:nvGraphicFramePr>
        <p:xfrm>
          <a:off x="1042920" y="404640"/>
          <a:ext cx="6985080" cy="5704200"/>
        </p:xfrm>
        <a:graphic>
          <a:graphicData uri="http://schemas.openxmlformats.org/drawingml/2006/table">
            <a:tbl>
              <a:tblPr/>
              <a:tblGrid>
                <a:gridCol w="1089000"/>
                <a:gridCol w="1790640"/>
                <a:gridCol w="2001960"/>
                <a:gridCol w="2103480"/>
              </a:tblGrid>
              <a:tr h="20988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RAZR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KRAJ</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IZVEDB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PROGRA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3.</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Bur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3. 4.–7.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9. 4.– 13.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6.4.– 20.4.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0 urni tečaj plavan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4.</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Medv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r>
                        <a:rPr b="0" lang="sl-SI" sz="1200" spc="-1" strike="noStrike">
                          <a:solidFill>
                            <a:srgbClr val="000000"/>
                          </a:solidFill>
                          <a:latin typeface="Gill Sans MT"/>
                        </a:rPr>
                        <a:t>8. 1.–12.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5. 1.–19.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2.1.–26.1.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1 T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2 Š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5.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Terme Čatež</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9.–14. 9.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7. 9.–21. 9.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1 T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Cerkno</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2.–2.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5. 3.–9.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T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Kope, Lukov do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12.–14. 12.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T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7.</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200"/>
                      </a:br>
                      <a:r>
                        <a:rPr b="0" lang="sl-SI" sz="1200" spc="-1" strike="noStrike">
                          <a:solidFill>
                            <a:srgbClr val="000000"/>
                          </a:solidFill>
                          <a:latin typeface="Gill Sans MT"/>
                        </a:rPr>
                        <a:t>Osilnica, Kovač</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9. 3.–30.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3.–30. 3. 201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½ KD</a:t>
                      </a:r>
                      <a:br>
                        <a:rPr sz="1200"/>
                      </a:br>
                      <a:r>
                        <a:rPr b="0" lang="sl-SI" sz="1200" spc="-1" strike="noStrike">
                          <a:solidFill>
                            <a:srgbClr val="000000"/>
                          </a:solidFill>
                          <a:latin typeface="Gill Sans MT"/>
                        </a:rPr>
                        <a:t>1ND</a:t>
                      </a:r>
                      <a:br>
                        <a:rPr sz="1200"/>
                      </a:br>
                      <a:r>
                        <a:rPr b="0" lang="sl-SI" sz="1200" spc="-1" strike="noStrike">
                          <a:solidFill>
                            <a:srgbClr val="000000"/>
                          </a:solidFill>
                          <a:latin typeface="Gill Sans MT"/>
                        </a:rPr>
                        <a:t>1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Kranjska Gor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4. 5.–18.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1. 5, - 25.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N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
          <p:cNvGraphicFramePr/>
          <p:nvPr/>
        </p:nvGraphicFramePr>
        <p:xfrm>
          <a:off x="468360" y="907920"/>
          <a:ext cx="7920000" cy="5243760"/>
        </p:xfrm>
        <a:graphic>
          <a:graphicData uri="http://schemas.openxmlformats.org/drawingml/2006/table">
            <a:tbl>
              <a:tblPr/>
              <a:tblGrid>
                <a:gridCol w="2808360"/>
                <a:gridCol w="863640"/>
                <a:gridCol w="863280"/>
                <a:gridCol w="1838520"/>
                <a:gridCol w="1546200"/>
              </a:tblGrid>
              <a:tr h="370080">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r>
                        <a:rPr b="0" lang="sl-SI" sz="1200" spc="-1" strike="noStrike">
                          <a:solidFill>
                            <a:srgbClr val="000000"/>
                          </a:solidFill>
                          <a:latin typeface="Calibri"/>
                          <a:ea typeface="Times New Roman"/>
                        </a:rPr>
                        <a:t> </a:t>
                      </a: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66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1 »Izzivi sodobnih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 Tomažinčič, Igor Rajne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7000">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2 »The Sunny Side Up«</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3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I. Rajner, Katja Tomažinč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21th International Biennial of Children and Young People Graphic Ar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esna Kovač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VG,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Drevo = življenj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Slavka Nahtigal</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a France voya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e macaron d'o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oča knjig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47</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rjan Potok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319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oč knji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3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esec šolskih knjižni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Branka Lah,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aša mala knjižnic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9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S, M,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890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Shema šolskega sadj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3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 K Križaj,</a:t>
                      </a:r>
                      <a:r>
                        <a:rPr b="0" lang="sl-SI" sz="1200" spc="-1" strike="noStrike">
                          <a:solidFill>
                            <a:srgbClr val="000000"/>
                          </a:solidFill>
                          <a:latin typeface="Calibri"/>
                          <a:ea typeface="Times New Roman"/>
                        </a:rPr>
                        <a:t> </a:t>
                      </a: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824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Igraj se z mano</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ja Miklavčič, Jasmina Selko, Tatjana Hren, Mateja Oberst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A,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Teden otroka</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628</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4</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4609</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356</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4" name="Pravokotnik 3"/>
          <p:cNvSpPr/>
          <p:nvPr/>
        </p:nvSpPr>
        <p:spPr>
          <a:xfrm>
            <a:off x="2994480" y="47628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Mednarodni projekti</a:t>
            </a:r>
            <a:endParaRPr b="0" lang="en-US" sz="1800" spc="-1" strike="noStrike">
              <a:solidFill>
                <a:srgbClr val="000000"/>
              </a:solidFill>
              <a:latin typeface="Gill Sans MT"/>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5" name=""/>
          <p:cNvGraphicFramePr/>
          <p:nvPr/>
        </p:nvGraphicFramePr>
        <p:xfrm>
          <a:off x="324000" y="549360"/>
          <a:ext cx="8424720" cy="4965480"/>
        </p:xfrm>
        <a:graphic>
          <a:graphicData uri="http://schemas.openxmlformats.org/drawingml/2006/table">
            <a:tbl>
              <a:tblPr/>
              <a:tblGrid>
                <a:gridCol w="2303280"/>
                <a:gridCol w="865080"/>
                <a:gridCol w="792360"/>
                <a:gridCol w="1511280"/>
                <a:gridCol w="1081080"/>
                <a:gridCol w="1871640"/>
              </a:tblGrid>
              <a:tr h="549360">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učitelj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osilec, krovna institucij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013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em s knjig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vna agencija za knjigo R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urizmu pomaga lastna glav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Dragica Šte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Turistična zvez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okrišč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8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 Križaj, </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10969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Kitenska luž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Hrvatin</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Stična v sodelovanju s Turističnim društvom Zagradec, Zavodom RS za šolstvo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parlament</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6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nja Virant,</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ša Mara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veza prijateljev mladine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Frankofonski festival</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Orehek Kranj, Slovensko društvo učiteljev francoščin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Vzgoja za zdrav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Malovr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D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radicionalni slovenski zajtrk</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adunc Križaj,</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Ex-tempore, Tabor Cero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ka Švigelj Koželj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SKD OI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6" name="Rectangle 3"/>
          <p:cNvSpPr/>
          <p:nvPr/>
        </p:nvSpPr>
        <p:spPr>
          <a:xfrm>
            <a:off x="3938760" y="1082520"/>
            <a:ext cx="261601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7" name="Pravokotnik 4"/>
          <p:cNvSpPr/>
          <p:nvPr/>
        </p:nvSpPr>
        <p:spPr>
          <a:xfrm>
            <a:off x="3276720" y="96840"/>
            <a:ext cx="2166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Državni projekti</a:t>
            </a:r>
            <a:endParaRPr b="0" lang="en-US" sz="1800" spc="-1" strike="noStrike">
              <a:solidFill>
                <a:srgbClr val="000000"/>
              </a:solidFill>
              <a:latin typeface="Gill Sans MT"/>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250920" y="333360"/>
          <a:ext cx="8424720" cy="5761080"/>
        </p:xfrm>
        <a:graphic>
          <a:graphicData uri="http://schemas.openxmlformats.org/drawingml/2006/table">
            <a:tbl>
              <a:tblPr/>
              <a:tblGrid>
                <a:gridCol w="3286080"/>
                <a:gridCol w="504720"/>
                <a:gridCol w="504720"/>
                <a:gridCol w="1073160"/>
                <a:gridCol w="630360"/>
                <a:gridCol w="2425680"/>
              </a:tblGrid>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licist Leon svetu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5.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Služba generalnega direktorja polici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asavč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0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nja Črniv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tična šol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Agencija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9604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Beremo s tačkami</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Vita Valenčak, 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Mreža Šolski pe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6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1</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a:t>
                      </a:r>
                      <a:endParaRPr b="0" lang="en-US" sz="14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ita Valenča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415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ešec, bodi preViden</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5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4.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Javna agencija RS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kloni zvez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4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ojca Malovr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Karita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Zlati bral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VG,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Društvo bralna značk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Nacionalni mesec skupnega branja Beremo 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284</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lno društvo Slovenij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207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86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804960"/>
            <a:ext cx="7404120" cy="3776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Light"/>
                <a:ea typeface="Calibri Light"/>
              </a:rPr>
              <a:t>NA MEDNARODNIH PROJEKTIH JE SKUPNO SODELOVALO 4609 UČENCEV IN 356 UČITELJEV.</a:t>
            </a:r>
            <a:br>
              <a:rPr sz="3200"/>
            </a:br>
            <a:br>
              <a:rPr sz="3200"/>
            </a:br>
            <a:r>
              <a:rPr b="1" lang="sl-SI" sz="3200" spc="-1" strike="noStrike">
                <a:solidFill>
                  <a:srgbClr val="000000"/>
                </a:solidFill>
                <a:latin typeface="Calibri Light"/>
                <a:ea typeface="Calibri Light"/>
              </a:rPr>
              <a:t>NA DRŽAVNIH PROJEKTIH JE SKUPNO SODELOVALO 5869 OTROK IN 545 UČITELJEV.</a:t>
            </a:r>
            <a:br>
              <a:rPr sz="3200"/>
            </a:br>
            <a:br>
              <a:rPr sz="3200"/>
            </a:br>
            <a:r>
              <a:rPr b="1" lang="sl-SI" sz="3200" spc="-1" strike="noStrike">
                <a:solidFill>
                  <a:srgbClr val="000000"/>
                </a:solidFill>
                <a:latin typeface="Calibri Light"/>
                <a:ea typeface="Calibri Light"/>
              </a:rPr>
              <a:t>VSAJ ENKRAT SO NA MEDNARODNIH IN DRŽAVNIH PROJEKTIH SODELOVALI VSI UČENCI IN UČITELJI. </a:t>
            </a:r>
            <a:br>
              <a:rPr sz="3200"/>
            </a:br>
            <a:endParaRPr b="0" lang="en-US" sz="3200" spc="-1" strike="noStrike">
              <a:solidFill>
                <a:srgbClr val="000000"/>
              </a:solidFill>
              <a:latin typeface="Gill Sans MT"/>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76360" y="115920"/>
            <a:ext cx="6572160" cy="536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2900" spc="-1" strike="noStrike">
                <a:solidFill>
                  <a:srgbClr val="fa2b5c"/>
                </a:solidFill>
                <a:latin typeface="Calibri"/>
                <a:ea typeface="Verdana"/>
              </a:rPr>
              <a:t>TEKMOVANJA IZ ZNANJ 2017/2018</a:t>
            </a:r>
            <a:br>
              <a:rPr sz="2900"/>
            </a:br>
            <a:endParaRPr b="0" lang="en-US" sz="2900" spc="-1" strike="noStrike">
              <a:solidFill>
                <a:srgbClr val="000000"/>
              </a:solidFill>
              <a:latin typeface="Gill Sans MT"/>
            </a:endParaRPr>
          </a:p>
        </p:txBody>
      </p:sp>
      <p:graphicFrame>
        <p:nvGraphicFramePr>
          <p:cNvPr id="541" name=""/>
          <p:cNvGraphicFramePr/>
          <p:nvPr/>
        </p:nvGraphicFramePr>
        <p:xfrm>
          <a:off x="395280" y="549360"/>
          <a:ext cx="8424720" cy="5432400"/>
        </p:xfrm>
        <a:graphic>
          <a:graphicData uri="http://schemas.openxmlformats.org/drawingml/2006/table">
            <a:tbl>
              <a:tblPr/>
              <a:tblGrid>
                <a:gridCol w="1660680"/>
                <a:gridCol w="981000"/>
                <a:gridCol w="1131840"/>
                <a:gridCol w="750960"/>
                <a:gridCol w="890640"/>
                <a:gridCol w="890280"/>
                <a:gridCol w="1024200"/>
                <a:gridCol w="1049400"/>
                <a:gridCol w="45720"/>
              </a:tblGrid>
              <a:tr h="245160">
                <a:tc rowSpan="3">
                  <a:txBody>
                    <a:bodyPr lIns="29520" rIns="2952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DMETNO PODROČJE</a:t>
                      </a:r>
                      <a:endParaRPr b="0" lang="en-US" sz="1400" spc="-1" strike="noStrike">
                        <a:solidFill>
                          <a:srgbClr val="000000"/>
                        </a:solidFill>
                        <a:latin typeface="Gill Sans MT"/>
                      </a:endParaRPr>
                    </a:p>
                  </a:txBody>
                  <a:tcPr anchor="ctr" marL="29520" marR="2952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šol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eg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držav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1069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bronasto priznanje</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zlat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48996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Log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azvedrilna matemat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ladkorna boleze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oteus - BI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0</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ngleški jezik</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stronom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Cankarjevo priznanje - SL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tefanovo priznanje - F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glovo priznanje - KEM</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govo priznanje - MAT</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6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0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Zgodovin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Geografij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sela šol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8008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92</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8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37</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7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8</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TEKMOVANJA IZ ZNANJ 2018/2019</a:t>
            </a:r>
            <a:br>
              <a:rPr sz="3200"/>
            </a:br>
            <a:endParaRPr b="0" lang="en-US" sz="3200" spc="-1" strike="noStrike">
              <a:solidFill>
                <a:srgbClr val="000000"/>
              </a:solidFill>
              <a:latin typeface="Gill Sans MT"/>
            </a:endParaRPr>
          </a:p>
        </p:txBody>
      </p:sp>
      <p:graphicFrame>
        <p:nvGraphicFramePr>
          <p:cNvPr id="543" name=""/>
          <p:cNvGraphicFramePr/>
          <p:nvPr/>
        </p:nvGraphicFramePr>
        <p:xfrm>
          <a:off x="539640" y="1628640"/>
          <a:ext cx="7848720" cy="2741760"/>
        </p:xfrm>
        <a:graphic>
          <a:graphicData uri="http://schemas.openxmlformats.org/drawingml/2006/table">
            <a:tbl>
              <a:tblPr/>
              <a:tblGrid>
                <a:gridCol w="2016360"/>
                <a:gridCol w="936360"/>
                <a:gridCol w="949320"/>
                <a:gridCol w="744840"/>
                <a:gridCol w="744480"/>
                <a:gridCol w="742680"/>
                <a:gridCol w="857520"/>
                <a:gridCol w="857160"/>
              </a:tblGrid>
              <a:tr h="327240">
                <a:tc rowSpan="2">
                  <a:txBody>
                    <a:bodyPr lIns="44280" rIns="4428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EDMETNO PODROČJE</a:t>
                      </a:r>
                      <a:endParaRPr b="0" lang="en-US" sz="1600" spc="-1" strike="noStrike">
                        <a:solidFill>
                          <a:srgbClr val="000000"/>
                        </a:solidFill>
                        <a:latin typeface="Gill Sans MT"/>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šol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egij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držav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120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bronasto priznanje</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lat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Logik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5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28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ladkorna boleze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272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oteus - BIO</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9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Angleški jezik</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ŠPORTNI DOSEŽKI</a:t>
            </a:r>
            <a:br>
              <a:rPr sz="3200"/>
            </a:br>
            <a:endParaRPr b="0" lang="en-US" sz="3200" spc="-1" strike="noStrike">
              <a:solidFill>
                <a:srgbClr val="000000"/>
              </a:solidFill>
              <a:latin typeface="Gill Sans MT"/>
            </a:endParaRPr>
          </a:p>
        </p:txBody>
      </p:sp>
      <p:sp>
        <p:nvSpPr>
          <p:cNvPr id="545" name="Pravokotnik 3"/>
          <p:cNvSpPr/>
          <p:nvPr/>
        </p:nvSpPr>
        <p:spPr>
          <a:xfrm>
            <a:off x="407880" y="2565360"/>
            <a:ext cx="8642520" cy="186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ca šole</a:t>
            </a:r>
            <a:r>
              <a:rPr b="0" lang="sl-SI" sz="2000" spc="-1" strike="noStrike">
                <a:solidFill>
                  <a:srgbClr val="000000"/>
                </a:solidFill>
                <a:latin typeface="Calibri"/>
                <a:ea typeface="Calibri"/>
              </a:rPr>
              <a:t> je v šolskem letu 2017/2018 postala Zoja Peteh iz 8. b razreda MŠ – odlične rezultate je dosegla v atletiki, krosu, odbojki in nogometu</a:t>
            </a:r>
            <a:endParaRPr b="0" lang="en-US" sz="2000" spc="-1" strike="noStrike">
              <a:solidFill>
                <a:srgbClr val="000000"/>
              </a:solidFill>
              <a:latin typeface="Gill Sans MT"/>
            </a:endParaRPr>
          </a:p>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k šole</a:t>
            </a:r>
            <a:r>
              <a:rPr b="0" lang="sl-SI" sz="2000" spc="-1" strike="noStrike">
                <a:solidFill>
                  <a:srgbClr val="000000"/>
                </a:solidFill>
                <a:latin typeface="Calibri"/>
                <a:ea typeface="Calibri"/>
              </a:rPr>
              <a:t> je v šolskem letu 2017/2018 postal Nejc Ropič iz 9. r PŠ Zagradec – odlične rezultate je dosegel v atletiki, krosu, odbojki, rokometu in nogometu</a:t>
            </a:r>
            <a:endParaRPr b="0" lang="en-US" sz="2000" spc="-1" strike="noStrike">
              <a:solidFill>
                <a:srgbClr val="000000"/>
              </a:solidFill>
              <a:latin typeface="Gill Sans MT"/>
            </a:endParaRPr>
          </a:p>
          <a:p>
            <a:pPr marL="343080" indent="-343080">
              <a:lnSpc>
                <a:spcPct val="10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rPr>
              <a:t> </a:t>
            </a:r>
            <a:endParaRPr b="0" lang="en-US" sz="1800" spc="-1" strike="noStrike">
              <a:solidFill>
                <a:srgbClr val="000000"/>
              </a:solidFill>
              <a:latin typeface="Gill Sans MT"/>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ravokotnik 2"/>
          <p:cNvSpPr/>
          <p:nvPr/>
        </p:nvSpPr>
        <p:spPr>
          <a:xfrm>
            <a:off x="324000" y="1052640"/>
            <a:ext cx="8712000" cy="4447080"/>
          </a:xfrm>
          <a:prstGeom prst="rect">
            <a:avLst/>
          </a:prstGeom>
          <a:noFill/>
          <a:ln w="0">
            <a:noFill/>
          </a:ln>
        </p:spPr>
        <p:style>
          <a:lnRef idx="0"/>
          <a:fillRef idx="0"/>
          <a:effectRef idx="0"/>
          <a:fontRef idx="minor"/>
        </p:style>
        <p:txBody>
          <a:bodyPr lIns="90000" rIns="90000" tIns="46800" bIns="46800" anchor="t">
            <a:spAutoFit/>
          </a:bodyPr>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1800" spc="-1" strike="noStrike">
                <a:solidFill>
                  <a:srgbClr val="000000"/>
                </a:solidFill>
                <a:latin typeface="Calibri"/>
              </a:rPr>
              <a:t>Najodmevnejši letošnji rezultati so: (6. 6. 2018 – državno tekmovanje v atletiki)</a:t>
            </a: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Uršula Černelč (7. a MŠ) – 2. mesto na državnem tekmovanju v teku na 3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David Skubic (7.a MŠ) -  2.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ina Bregar (8. b MŠ) – 5.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Živa Batis (7. b MŠ) – 6. mesto v skoku v daljino,</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Cene Zupančič (9. Z) – 7. mesto v metu krogle,</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Zoja Peteh (8. b MŠ) – 8. mesto v teku na 10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a državnem tekmovanju v atletiki so tekmovali še Blaž Perko v teku na 60 m (15. mesto), Pia Lebar v teku na 300 m (20. mesto), štafeta 4x100 m v postavi Tilen Kovačič, Simon Vidmar, Nejc Ropič in Blaž Perko (10. mesto), Ajda Barna Grabrijan v skoku v višino.</a:t>
            </a:r>
            <a:endParaRPr b="0" lang="en-US" sz="1800" spc="-1" strike="noStrike">
              <a:solidFill>
                <a:srgbClr val="000000"/>
              </a:solidFill>
              <a:latin typeface="Gill Sans MT"/>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13" name="Naslov 1"/>
          <p:cNvGrpSpPr/>
          <p:nvPr/>
        </p:nvGrpSpPr>
        <p:grpSpPr>
          <a:xfrm>
            <a:off x="500040" y="652320"/>
            <a:ext cx="7851960" cy="4973760"/>
            <a:chOff x="500040" y="652320"/>
            <a:chExt cx="7851960" cy="4973760"/>
          </a:xfrm>
        </p:grpSpPr>
        <p:pic>
          <p:nvPicPr>
            <p:cNvPr id="514" name="Naslov 1" descr=""/>
            <p:cNvPicPr/>
            <p:nvPr/>
          </p:nvPicPr>
          <p:blipFill>
            <a:blip r:embed="rId1"/>
            <a:stretch/>
          </p:blipFill>
          <p:spPr>
            <a:xfrm>
              <a:off x="500040" y="652320"/>
              <a:ext cx="7851960" cy="4973760"/>
            </a:xfrm>
            <a:prstGeom prst="rect">
              <a:avLst/>
            </a:prstGeom>
            <a:ln w="0">
              <a:noFill/>
            </a:ln>
          </p:spPr>
        </p:pic>
        <p:sp>
          <p:nvSpPr>
            <p:cNvPr id="515" name=""/>
            <p:cNvSpPr/>
            <p:nvPr/>
          </p:nvSpPr>
          <p:spPr>
            <a:xfrm>
              <a:off x="539640" y="692280"/>
              <a:ext cx="7772400" cy="489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oddelkov (pouk in OPB): </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77,24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81,80 (1.9.2018)</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učencev: </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48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84 (1.9.2018)</a:t>
              </a:r>
              <a:endParaRPr b="0" lang="en-US" sz="4000" spc="-1" strike="noStrike">
                <a:solidFill>
                  <a:srgbClr val="000000"/>
                </a:solidFill>
                <a:latin typeface="Gill Sans MT"/>
              </a:endParaRPr>
            </a:p>
          </p:txBody>
        </p:sp>
      </p:grpSp>
    </p:spTree>
  </p:cSld>
  <p:transition spd="slow" advTm="8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 NPZ</a:t>
            </a:r>
            <a:endParaRPr b="0" lang="en-US" sz="4000" spc="-1" strike="noStrike">
              <a:solidFill>
                <a:srgbClr val="000000"/>
              </a:solidFill>
              <a:latin typeface="Gill Sans MT"/>
            </a:endParaRPr>
          </a:p>
        </p:txBody>
      </p:sp>
      <p:sp>
        <p:nvSpPr>
          <p:cNvPr id="549" name="PoljeZBesedilom 2"/>
          <p:cNvSpPr/>
          <p:nvPr/>
        </p:nvSpPr>
        <p:spPr>
          <a:xfrm>
            <a:off x="250920" y="981000"/>
            <a:ext cx="8713800" cy="4275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u="sng">
                <a:solidFill>
                  <a:srgbClr val="000000"/>
                </a:solidFill>
                <a:uFillTx/>
                <a:latin typeface="Gill Sans MT"/>
              </a:rPr>
              <a:t>V 6. razredu </a:t>
            </a:r>
            <a:r>
              <a:rPr b="0" lang="sl-SI" sz="2000" spc="-1" strike="noStrike">
                <a:solidFill>
                  <a:srgbClr val="000000"/>
                </a:solidFill>
                <a:latin typeface="Gill Sans MT"/>
              </a:rPr>
              <a:t>je 112 učencev (59 MŠ, 19 VG in 34 Z). Preverjanje znanja učencev 6. razreda je potekalo po naslednjem razporedu:</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Slovenščina - petek, 4. maj 2018 - 105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8,65 % (SLO – 46,24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Matematika - ponedeljek, 7. maj 2018 – 108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54,23 % (SLO – 52,52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Angleščina - sreda, 9. maj 2018 - 110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7,75 % (SLO – 51,06 %).</a:t>
            </a:r>
            <a:endParaRPr b="0" lang="en-US" sz="2000" spc="-1" strike="noStrike">
              <a:solidFill>
                <a:srgbClr val="000000"/>
              </a:solidFill>
              <a:latin typeface="Gill Sans MT"/>
            </a:endParaRPr>
          </a:p>
        </p:txBody>
      </p:sp>
    </p:spTree>
  </p:cSld>
  <p:transition spd="slow" advTm="8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ravokotnik 2"/>
          <p:cNvSpPr/>
          <p:nvPr/>
        </p:nvSpPr>
        <p:spPr>
          <a:xfrm>
            <a:off x="468360" y="990720"/>
            <a:ext cx="7775640" cy="432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6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u="sng">
                <a:solidFill>
                  <a:srgbClr val="000000"/>
                </a:solidFill>
                <a:uFillTx/>
                <a:latin typeface="Calibri"/>
                <a:ea typeface="Times New Roman"/>
              </a:rPr>
              <a:t>V 9. razredu</a:t>
            </a:r>
            <a:r>
              <a:rPr b="0" lang="sl-SI" sz="1800" spc="-1" strike="noStrike">
                <a:solidFill>
                  <a:srgbClr val="000000"/>
                </a:solidFill>
                <a:latin typeface="Calibri"/>
                <a:ea typeface="Times New Roman"/>
              </a:rPr>
              <a:t> je 112 učencev (65 MŠ, 21 VG in 26 Z). Preverjanje znanja učencev 9. razreda je potekalo po naslednjem razporedu:</a:t>
            </a:r>
            <a:endParaRPr b="0" lang="en-US" sz="1800" spc="-1" strike="noStrike">
              <a:solidFill>
                <a:srgbClr val="000000"/>
              </a:solidFill>
              <a:latin typeface="Gill Sans MT"/>
            </a:endParaRPr>
          </a:p>
          <a:p>
            <a:pPr algn="just">
              <a:lnSpc>
                <a:spcPct val="100000"/>
              </a:lnSpc>
              <a:spcBef>
                <a:spcPts val="1199"/>
              </a:spcBef>
              <a:spcAft>
                <a:spcPts val="1624"/>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Slovenščina - petek, 4. maj 2018 - 106 učenec </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2,11 % (SLO – 51,00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Matematika - ponedeljek, 7. maj 2018 - 109 učenec</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4,51 % (SLO – 53,06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Glasbena umetnost - sreda, 9. maj 2018 - 105 učencev</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61,44 % (SLO – 59,01 %).</a:t>
            </a:r>
            <a:endParaRPr b="0" lang="en-US" sz="2000" spc="-1" strike="noStrike">
              <a:solidFill>
                <a:srgbClr val="000000"/>
              </a:solidFill>
              <a:latin typeface="Gill Sans MT"/>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2"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PIS V SREDNJE ŠOLE</a:t>
            </a:r>
            <a:endParaRPr b="0" lang="en-US" sz="4000" spc="-1" strike="noStrike">
              <a:solidFill>
                <a:srgbClr val="000000"/>
              </a:solidFill>
              <a:latin typeface="Gill Sans MT"/>
            </a:endParaRPr>
          </a:p>
        </p:txBody>
      </p:sp>
      <p:sp>
        <p:nvSpPr>
          <p:cNvPr id="553" name="PoljeZBesedilom 2"/>
          <p:cNvSpPr/>
          <p:nvPr/>
        </p:nvSpPr>
        <p:spPr>
          <a:xfrm>
            <a:off x="324000" y="1052640"/>
            <a:ext cx="8820000" cy="573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Učenci, ki so v juniju 2018 uspešno zaključili 9. razred oz. zaključili osnovnošolsko obveznost so se </a:t>
            </a:r>
            <a:r>
              <a:rPr b="1" lang="sl-SI" sz="2000" spc="-1" strike="noStrike">
                <a:solidFill>
                  <a:srgbClr val="000000"/>
                </a:solidFill>
                <a:latin typeface="Gill Sans MT"/>
              </a:rPr>
              <a:t>vpisali v srednješolske izobraževalne programe</a:t>
            </a:r>
            <a:r>
              <a:rPr b="0" lang="sl-SI" sz="2000" spc="-1" strike="noStrike">
                <a:solidFill>
                  <a:srgbClr val="000000"/>
                </a:solidFill>
                <a:latin typeface="Gill Sans MT"/>
              </a:rPr>
              <a:t>:</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gimnazija in strokovna gimnazija: 38 (Srednja šola Josipa Jurčiča: 22 učencev),</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rogrami srednjega strokovnega oz. tehniškega izobraževanja: 59 (Srednja šola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J. Jurčiča: 3 učenci),</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srednjega poklicnega izobraževanja: 15,</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nižjega poklicnega izobraževanja: 2 (1 učenec NIS in 1 učenec zaključil OŠ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obveznost v 7. razredu).</a:t>
            </a:r>
            <a:r>
              <a:rPr b="0" lang="sl-SI" sz="2000" spc="-1" strike="noStrike">
                <a:solidFill>
                  <a:srgbClr val="000000"/>
                </a:solidFill>
                <a:latin typeface="Gill Sans MT"/>
              </a:rPr>
              <a:t>	</a:t>
            </a:r>
            <a:endParaRPr b="0" lang="en-US" sz="2000" spc="-1" strike="noStrike">
              <a:solidFill>
                <a:srgbClr val="000000"/>
              </a:solidFill>
              <a:latin typeface="Gill Sans MT"/>
            </a:endParaRPr>
          </a:p>
        </p:txBody>
      </p:sp>
    </p:spTree>
  </p:cSld>
  <p:transition spd="slow" advTm="8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5" name="PoljeZBesedilom 1"/>
          <p:cNvSpPr/>
          <p:nvPr/>
        </p:nvSpPr>
        <p:spPr>
          <a:xfrm>
            <a:off x="2195640" y="47628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a:t>
            </a:r>
            <a:endParaRPr b="0" lang="en-US" sz="4000" spc="-1" strike="noStrike">
              <a:solidFill>
                <a:srgbClr val="000000"/>
              </a:solidFill>
              <a:latin typeface="Gill Sans MT"/>
            </a:endParaRPr>
          </a:p>
        </p:txBody>
      </p:sp>
      <p:graphicFrame>
        <p:nvGraphicFramePr>
          <p:cNvPr id="556" name=""/>
          <p:cNvGraphicFramePr/>
          <p:nvPr/>
        </p:nvGraphicFramePr>
        <p:xfrm>
          <a:off x="468360" y="1413000"/>
          <a:ext cx="8136000" cy="4319640"/>
        </p:xfrm>
        <a:graphic>
          <a:graphicData uri="http://schemas.openxmlformats.org/drawingml/2006/table">
            <a:tbl>
              <a:tblPr/>
              <a:tblGrid>
                <a:gridCol w="1198440"/>
                <a:gridCol w="658800"/>
                <a:gridCol w="1227240"/>
                <a:gridCol w="920880"/>
                <a:gridCol w="734760"/>
                <a:gridCol w="1414440"/>
                <a:gridCol w="990720"/>
                <a:gridCol w="990720"/>
              </a:tblGrid>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ozitivno ocenjeni uč.</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ne napreduje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AZRED</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 neg.oc.</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ponavlja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P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5.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9.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VG</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7,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Z</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 9.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6.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8. - 9.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OŠ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4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8"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Kadrovanje</a:t>
            </a:r>
            <a:endParaRPr b="0" lang="en-US" sz="4000" spc="-1" strike="noStrike">
              <a:solidFill>
                <a:srgbClr val="000000"/>
              </a:solidFill>
              <a:latin typeface="Gill Sans MT"/>
            </a:endParaRPr>
          </a:p>
        </p:txBody>
      </p:sp>
      <p:graphicFrame>
        <p:nvGraphicFramePr>
          <p:cNvPr id="559" name=""/>
          <p:cNvGraphicFramePr/>
          <p:nvPr/>
        </p:nvGraphicFramePr>
        <p:xfrm>
          <a:off x="287280" y="620640"/>
          <a:ext cx="8231400" cy="5172120"/>
        </p:xfrm>
        <a:graphic>
          <a:graphicData uri="http://schemas.openxmlformats.org/drawingml/2006/table">
            <a:tbl>
              <a:tblPr/>
              <a:tblGrid>
                <a:gridCol w="5508720"/>
                <a:gridCol w="1368360"/>
                <a:gridCol w="1354320"/>
              </a:tblGrid>
              <a:tr h="252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Število zaposlenih delavcev:</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administrativno-računovodsk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tehnični delavci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42</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30</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50472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kupno število zaposlenih</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8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7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5064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zaposlenih delovnih invalidov z II. ali III. stopnjo invalidnosti</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Times New Roman"/>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Zaposleni v delovnem razmerju:</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nedoločen čas</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določen čas</a:t>
                      </a:r>
                      <a:endParaRPr b="0" lang="en-US" sz="1400" spc="-1" strike="noStrike">
                        <a:solidFill>
                          <a:srgbClr val="000000"/>
                        </a:solidFill>
                        <a:latin typeface="Gill Sans MT"/>
                      </a:endParaRPr>
                    </a:p>
                    <a:p>
                      <a:pPr>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od tega neustrezna izobrazb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5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42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učiteljev začetnikov</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12268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 po nazivu:    </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nik</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ovalec</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mentor </a:t>
                      </a:r>
                      <a:endParaRPr b="0" lang="en-US" sz="1400" spc="-1" strike="noStrike">
                        <a:solidFill>
                          <a:srgbClr val="000000"/>
                        </a:solidFill>
                        <a:latin typeface="Gill Sans MT"/>
                      </a:endParaRPr>
                    </a:p>
                    <a:p>
                      <a:pPr>
                        <a:lnSpc>
                          <a:spcPct val="115000"/>
                        </a:lnSpc>
                        <a:spcAft>
                          <a:spcPts val="1001"/>
                        </a:spcAft>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brez naziv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8</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7</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560520">
                <a:tc>
                  <a:txBody>
                    <a:bodyPr lIns="68760" rIns="68760" tIns="0" bIns="0" anchor="t">
                      <a:noAutofit/>
                    </a:bodyPr>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Upokojitve: redna</a:t>
                      </a:r>
                      <a:endParaRPr b="0" lang="en-US" sz="1400" spc="-1" strike="noStrike">
                        <a:solidFill>
                          <a:srgbClr val="000000"/>
                        </a:solidFill>
                        <a:latin typeface="Gill Sans MT"/>
                      </a:endParaRPr>
                    </a:p>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Invalidska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ravokotnik 2"/>
          <p:cNvSpPr/>
          <p:nvPr/>
        </p:nvSpPr>
        <p:spPr>
          <a:xfrm>
            <a:off x="468360" y="1916280"/>
            <a:ext cx="8207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letošnji anketi smo želeli pridobiti informacije o izgledu šole zunaj in znotraj. K temu so nas spodbudile pripombe na več lokacijah/na roditeljskih sestankih/svetu staršev/telefonska obvestila …, kako so nečisti WC-ji, kako zanemarjeno je okrog šole, kako je v učilnicah pretoplo, prehladno … Ker OŠ Stična deluje na sedmih lokacijah, smo anketo temu prilagodili.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Starši so vprašalnik izpolnjevali preko spletne strani naše šole v času od 22. 1. 2019 do 3. 2. 2019. O tem so bili obveščeni preko sistema Lopolis; anketni vprašalnik je bil poslan na 980 e-naslovov staršev, povezava je bila tudi na spletni strani šole. Vprašalnik je bil izpolnjen 454-krat. Starši, ki imajo svoje otroke na dveh lokacijah, so bili naprošeni, da vprašalnik izpolnijo dvakrat – za vsako lokacijo posebej.</a:t>
            </a:r>
            <a:endParaRPr b="0" lang="en-US" sz="2000" spc="-1" strike="noStrike">
              <a:solidFill>
                <a:srgbClr val="000000"/>
              </a:solidFill>
              <a:latin typeface="Gill Sans MT"/>
            </a:endParaRPr>
          </a:p>
        </p:txBody>
      </p:sp>
      <p:sp>
        <p:nvSpPr>
          <p:cNvPr id="561" name="Pravokotnik 3"/>
          <p:cNvSpPr/>
          <p:nvPr/>
        </p:nvSpPr>
        <p:spPr>
          <a:xfrm>
            <a:off x="755640" y="765000"/>
            <a:ext cx="73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800" spc="-1" strike="noStrike">
                <a:solidFill>
                  <a:srgbClr val="ba2169"/>
                </a:solidFill>
                <a:latin typeface="Calibri"/>
                <a:ea typeface="Times New Roman"/>
              </a:rPr>
              <a:t>Ugotavljanje kakovosti in samoevalvacija </a:t>
            </a:r>
            <a:endParaRPr b="0" lang="en-US" sz="2800" spc="-1" strike="noStrike">
              <a:solidFill>
                <a:srgbClr val="000000"/>
              </a:solidFill>
              <a:latin typeface="Gill Sans MT"/>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ravokotnik 2"/>
          <p:cNvSpPr/>
          <p:nvPr/>
        </p:nvSpPr>
        <p:spPr>
          <a:xfrm>
            <a:off x="611280" y="2060640"/>
            <a:ext cx="7777080" cy="19861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kovnim delavcem je bil vprašalnik poslan na njihove službene e-naslove (143). Izpolnjevali so ga v času od 22. 1. 2019 do 3. 2. 2019. Vprašalnik je bil izpolnjen 119-krat. Enako kot starši so bili tudi oni naprošeni, da vprašalnik izpolnijo za vsako lokacijo posebej, če so zaposleni na dveh oz. treh lokacijah približno enakovredno, sicer pa za tisto lokacijo, kjer pretežno opravljajo svoje delo.</a:t>
            </a:r>
            <a:endParaRPr b="0" lang="en-US" sz="1800" spc="-1" strike="noStrike">
              <a:solidFill>
                <a:srgbClr val="000000"/>
              </a:solidFill>
              <a:latin typeface="Gill Sans MT"/>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ravokotnik 2"/>
          <p:cNvSpPr/>
          <p:nvPr/>
        </p:nvSpPr>
        <p:spPr>
          <a:xfrm>
            <a:off x="324000" y="2349360"/>
            <a:ext cx="87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arših je </a:t>
            </a:r>
            <a:r>
              <a:rPr b="1" lang="sl-SI" sz="1800" spc="-1" strike="noStrike">
                <a:solidFill>
                  <a:srgbClr val="000000"/>
                </a:solidFill>
                <a:latin typeface="Gill Sans MT"/>
              </a:rPr>
              <a:t>4,02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rokovnih delavcih šole je </a:t>
            </a:r>
            <a:r>
              <a:rPr b="1" lang="sl-SI" sz="1800" spc="-1" strike="noStrike">
                <a:solidFill>
                  <a:srgbClr val="000000"/>
                </a:solidFill>
                <a:latin typeface="Gill Sans MT"/>
              </a:rPr>
              <a:t>4,30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Skupna stopnja izraženega zadovoljstva v anketi je 4,16 </a:t>
            </a:r>
            <a:r>
              <a:rPr b="0" lang="sl-SI" sz="1800" spc="-1" strike="noStrike">
                <a:solidFill>
                  <a:srgbClr val="000000"/>
                </a:solidFill>
                <a:latin typeface="Calibri"/>
                <a:ea typeface="Times New Roman"/>
              </a:rPr>
              <a:t>(na lestvici od 1 do 5)</a:t>
            </a:r>
            <a:r>
              <a:rPr b="1" lang="sl-SI" sz="1800" spc="-1" strike="noStrike">
                <a:solidFill>
                  <a:srgbClr val="000000"/>
                </a:solidFill>
                <a:latin typeface="Calibri"/>
                <a:ea typeface="Times New Roman"/>
              </a:rPr>
              <a:t>.</a:t>
            </a:r>
            <a:endParaRPr b="0" lang="en-US" sz="1800" spc="-1" strike="noStrike">
              <a:solidFill>
                <a:srgbClr val="000000"/>
              </a:solidFill>
              <a:latin typeface="Gill Sans MT"/>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32000" y="27079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FINANČNO POSLOVANJE OŠ STIČNA V LETU 2018</a:t>
            </a:r>
            <a:endParaRPr b="0" lang="en-US" sz="3200" spc="-1" strike="noStrike">
              <a:solidFill>
                <a:srgbClr val="000000"/>
              </a:solidFill>
              <a:latin typeface="Gill Sans MT"/>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ravokotnik 2"/>
          <p:cNvSpPr/>
          <p:nvPr/>
        </p:nvSpPr>
        <p:spPr>
          <a:xfrm>
            <a:off x="611280" y="2060640"/>
            <a:ext cx="7777080" cy="17766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je bilo poslovanje Osnovne šole Stična naslednje: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znašali 5.735.737,2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DHODKI  so znašali 5.691.682,04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kar pomeni, da je bil ugotovljen presežek prihodkov nad odhodki v vrednosti 44.055,24 €. </a:t>
            </a:r>
            <a:endParaRPr b="0" lang="en-US" sz="1600" spc="-1" strike="noStrike">
              <a:solidFill>
                <a:srgbClr val="000000"/>
              </a:solidFill>
              <a:latin typeface="Gill Sans M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7"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ZGOJNO-IZOBRAŽEVALNO DELO</a:t>
            </a:r>
            <a:endParaRPr b="0" lang="en-US" sz="4000" spc="-1" strike="noStrike">
              <a:solidFill>
                <a:srgbClr val="000000"/>
              </a:solidFill>
              <a:latin typeface="Gill Sans MT"/>
            </a:endParaRPr>
          </a:p>
        </p:txBody>
      </p:sp>
      <p:sp>
        <p:nvSpPr>
          <p:cNvPr id="518" name="PoljeZBesedilom 3"/>
          <p:cNvSpPr/>
          <p:nvPr/>
        </p:nvSpPr>
        <p:spPr>
          <a:xfrm>
            <a:off x="250920" y="620640"/>
            <a:ext cx="8893080" cy="667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REALIZACIJA</a:t>
            </a:r>
            <a:r>
              <a:rPr b="1"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2017/18</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OBVEZNI PROGRAM</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pouk</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98,84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5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ure oddelčne skupnosti           102,00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neobvezni 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3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SKUPAJ</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100,33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p:txBody>
      </p:sp>
    </p:spTree>
  </p:cSld>
  <p:transition spd="slow" advTm="8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ravokotnik 2"/>
          <p:cNvSpPr/>
          <p:nvPr/>
        </p:nvSpPr>
        <p:spPr>
          <a:xfrm>
            <a:off x="611280" y="2106720"/>
            <a:ext cx="7777080" cy="462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pridobljeni iz več virov, njihova sestava pa je v odstotkih naslednja:</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žavni proračun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81,12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činski proračun (občina Iv. Goric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6,51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spevek starš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1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tržna dejavnos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07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stali vi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2,1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ugi uporabniki javnih sredstev, Vrtec Iv. G. (plačilo malic na Krki in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6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PRIHODKI</a:t>
            </a:r>
            <a:endParaRPr b="0" lang="en-US" sz="3200" spc="-1" strike="noStrike">
              <a:solidFill>
                <a:srgbClr val="000000"/>
              </a:solidFill>
              <a:latin typeface="Gill Sans MT"/>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69" name="Grafikon 4"/>
          <p:cNvGraphicFramePr/>
          <p:nvPr/>
        </p:nvGraphicFramePr>
        <p:xfrm>
          <a:off x="1042920" y="981000"/>
          <a:ext cx="7662960" cy="5159520"/>
        </p:xfrm>
        <a:graphic>
          <a:graphicData uri="http://schemas.openxmlformats.org/presentationml/2006/ole">
            <p:oleObj progId="Excel.Sheet.12" r:id="rId1" spid="">
              <p:embed/>
              <p:pic>
                <p:nvPicPr>
                  <p:cNvPr id="570"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1" name="Grafikon 5"/>
          <p:cNvGraphicFramePr/>
          <p:nvPr/>
        </p:nvGraphicFramePr>
        <p:xfrm>
          <a:off x="1281240" y="714240"/>
          <a:ext cx="6389640" cy="4797720"/>
        </p:xfrm>
        <a:graphic>
          <a:graphicData uri="http://schemas.openxmlformats.org/presentationml/2006/ole">
            <p:oleObj progId="Excel.Sheet.12" r:id="rId3" spid="">
              <p:embed/>
              <p:pic>
                <p:nvPicPr>
                  <p:cNvPr id="572"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74" name="Grafikon 4"/>
          <p:cNvGraphicFramePr/>
          <p:nvPr/>
        </p:nvGraphicFramePr>
        <p:xfrm>
          <a:off x="1042920" y="981000"/>
          <a:ext cx="7662960" cy="5159520"/>
        </p:xfrm>
        <a:graphic>
          <a:graphicData uri="http://schemas.openxmlformats.org/presentationml/2006/ole">
            <p:oleObj progId="Excel.Sheet.12" r:id="rId1" spid="">
              <p:embed/>
              <p:pic>
                <p:nvPicPr>
                  <p:cNvPr id="575"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6" name="Grafikon 5"/>
          <p:cNvGraphicFramePr/>
          <p:nvPr/>
        </p:nvGraphicFramePr>
        <p:xfrm>
          <a:off x="1281240" y="714240"/>
          <a:ext cx="6389640" cy="4797720"/>
        </p:xfrm>
        <a:graphic>
          <a:graphicData uri="http://schemas.openxmlformats.org/presentationml/2006/ole">
            <p:oleObj progId="Excel.Sheet.12" r:id="rId3" spid="">
              <p:embed/>
              <p:pic>
                <p:nvPicPr>
                  <p:cNvPr id="577"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ravokotnik 2"/>
          <p:cNvSpPr/>
          <p:nvPr/>
        </p:nvSpPr>
        <p:spPr>
          <a:xfrm>
            <a:off x="611280" y="2106720"/>
            <a:ext cx="7777080" cy="32367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državnega proračuna (MIZŠ) so namenjena pokrivanju naslednjih stroškov:</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92 %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materialni stroški v skladu z normativi in standardi, nabava učil in učnih pripomočkov,  izobraževanje delavcev, zdravstveni pregledi zaposlenih, delno pokrivanje ekskurzij učencev, subvencioniranje šolske prehrane, sofinanciranje ene šole v naravi, nabava učbenikov za šolski sklad)</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800" spc="-1" strike="noStrike">
                <a:solidFill>
                  <a:srgbClr val="000000"/>
                </a:solidFill>
                <a:latin typeface="Gill Sans MT"/>
              </a:rPr>
              <a:t>PRIHODKI IZ DRŽAVNEGA PRORAČUNA</a:t>
            </a:r>
            <a:endParaRPr b="0" lang="en-US" sz="2800" spc="-1" strike="noStrike">
              <a:solidFill>
                <a:srgbClr val="000000"/>
              </a:solidFill>
              <a:latin typeface="Gill Sans MT"/>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1" name="Grafikon 4"/>
          <p:cNvGraphicFramePr/>
          <p:nvPr/>
        </p:nvGraphicFramePr>
        <p:xfrm>
          <a:off x="826920" y="692280"/>
          <a:ext cx="7662960" cy="5159160"/>
        </p:xfrm>
        <a:graphic>
          <a:graphicData uri="http://schemas.openxmlformats.org/presentationml/2006/ole">
            <p:oleObj progId="Excel.Sheet.12" r:id="rId1" spid="">
              <p:embed/>
              <p:pic>
                <p:nvPicPr>
                  <p:cNvPr id="582" name="Grafikon 4" descr=""/>
                  <p:cNvPicPr/>
                  <p:nvPr/>
                </p:nvPicPr>
                <p:blipFill>
                  <a:blip r:embed="rId2"/>
                  <a:stretch/>
                </p:blipFill>
                <p:spPr>
                  <a:xfrm>
                    <a:off x="826920" y="692280"/>
                    <a:ext cx="7662960" cy="5159160"/>
                  </a:xfrm>
                  <a:prstGeom prst="rect">
                    <a:avLst/>
                  </a:prstGeom>
                  <a:ln w="0">
                    <a:noFill/>
                  </a:ln>
                </p:spPr>
              </p:pic>
            </p:oleObj>
          </a:graphicData>
        </a:graphic>
      </p:graphicFrame>
      <p:graphicFrame>
        <p:nvGraphicFramePr>
          <p:cNvPr id="583" name="Grafikon 5"/>
          <p:cNvGraphicFramePr/>
          <p:nvPr/>
        </p:nvGraphicFramePr>
        <p:xfrm>
          <a:off x="1463760" y="1434960"/>
          <a:ext cx="6543720" cy="4724640"/>
        </p:xfrm>
        <a:graphic>
          <a:graphicData uri="http://schemas.openxmlformats.org/presentationml/2006/ole">
            <p:oleObj progId="Excel.Sheet.12" r:id="rId3" spid="">
              <p:embed/>
              <p:pic>
                <p:nvPicPr>
                  <p:cNvPr id="584" name="Grafikon 5" descr=""/>
                  <p:cNvPicPr/>
                  <p:nvPr/>
                </p:nvPicPr>
                <p:blipFill>
                  <a:blip r:embed="rId4"/>
                  <a:stretch/>
                </p:blipFill>
                <p:spPr>
                  <a:xfrm>
                    <a:off x="1463760" y="1434960"/>
                    <a:ext cx="6543720" cy="4724640"/>
                  </a:xfrm>
                  <a:prstGeom prst="rect">
                    <a:avLst/>
                  </a:prstGeom>
                  <a:ln w="0">
                    <a:noFill/>
                  </a:ln>
                </p:spPr>
              </p:pic>
            </p:oleObj>
          </a:graphicData>
        </a:graphic>
      </p:graphicFrame>
      <p:sp>
        <p:nvSpPr>
          <p:cNvPr id="585"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DRŽAVNEGA PRORAČUNA – </a:t>
            </a:r>
            <a:br>
              <a:rPr sz="2500"/>
            </a:br>
            <a:r>
              <a:rPr b="0" lang="sl-SI" sz="2000" spc="-1" strike="noStrike">
                <a:solidFill>
                  <a:srgbClr val="000000"/>
                </a:solidFill>
                <a:latin typeface="Gill Sans MT"/>
              </a:rPr>
              <a:t>MINISTRSTVA ZA IZOBRAŽEVANJE, ZNANOST IN ŠPORT</a:t>
            </a:r>
            <a:endParaRPr b="0" lang="en-US" sz="2000" spc="-1" strike="noStrike">
              <a:solidFill>
                <a:srgbClr val="000000"/>
              </a:solidFill>
              <a:latin typeface="Gill Sans MT"/>
            </a:endParaRPr>
          </a:p>
        </p:txBody>
      </p:sp>
    </p:spTree>
  </p:cSld>
  <p:transition spd="slow" advTm="8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ravokotnik 2"/>
          <p:cNvSpPr/>
          <p:nvPr/>
        </p:nvSpPr>
        <p:spPr>
          <a:xfrm>
            <a:off x="755640" y="1854360"/>
            <a:ext cx="7777080" cy="48243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občinskega proračuna občine Ivančna Gorica so namenjena pokrivanju naslednjih strošk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65 %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škov uporabe prostora in opreme – elektrika, voda, odvoz smeti, varovanje objekta, čiščenje greznic, vzdrževanje dvigala, kurjava, material in storitve za vzdrževanje prostor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 za določen delež zaposlenih</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goriva in stroškov vzdrževanja avtomobila za dodatne prevoze učencev – Hyunda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zavarovanju objektov in opreme</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VA ZA PREVOZE UČENCEV V ŠOLO IN IZ ŠOLE PA ZAGOTAVLJA OBČINA DIREKTNO PREKO IZVEDENEGA JAVNEGA NAROČIL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87"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PRIHODKI IZ OBČINSKEGA PRORAČUNA – OBČINA IVANČNA GORICA</a:t>
            </a:r>
            <a:endParaRPr b="0" lang="en-US" sz="2500" spc="-1" strike="noStrike">
              <a:solidFill>
                <a:srgbClr val="000000"/>
              </a:solidFill>
              <a:latin typeface="Gill Sans MT"/>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9" name="Grafikon 4"/>
          <p:cNvGraphicFramePr/>
          <p:nvPr/>
        </p:nvGraphicFramePr>
        <p:xfrm>
          <a:off x="863640" y="692280"/>
          <a:ext cx="7662960" cy="5159160"/>
        </p:xfrm>
        <a:graphic>
          <a:graphicData uri="http://schemas.openxmlformats.org/presentationml/2006/ole">
            <p:oleObj progId="Excel.Sheet.12" r:id="rId1" spid="">
              <p:embed/>
              <p:pic>
                <p:nvPicPr>
                  <p:cNvPr id="590" name="Grafikon 4" descr=""/>
                  <p:cNvPicPr/>
                  <p:nvPr/>
                </p:nvPicPr>
                <p:blipFill>
                  <a:blip r:embed="rId2"/>
                  <a:stretch/>
                </p:blipFill>
                <p:spPr>
                  <a:xfrm>
                    <a:off x="863640" y="692280"/>
                    <a:ext cx="7662960" cy="5159160"/>
                  </a:xfrm>
                  <a:prstGeom prst="rect">
                    <a:avLst/>
                  </a:prstGeom>
                  <a:ln w="0">
                    <a:noFill/>
                  </a:ln>
                </p:spPr>
              </p:pic>
            </p:oleObj>
          </a:graphicData>
        </a:graphic>
      </p:graphicFrame>
      <p:graphicFrame>
        <p:nvGraphicFramePr>
          <p:cNvPr id="591" name="Grafikon 5"/>
          <p:cNvGraphicFramePr/>
          <p:nvPr/>
        </p:nvGraphicFramePr>
        <p:xfrm>
          <a:off x="1857240" y="1865160"/>
          <a:ext cx="5573880" cy="3918240"/>
        </p:xfrm>
        <a:graphic>
          <a:graphicData uri="http://schemas.openxmlformats.org/presentationml/2006/ole">
            <p:oleObj progId="Excel.Sheet.12" r:id="rId3" spid="">
              <p:embed/>
              <p:pic>
                <p:nvPicPr>
                  <p:cNvPr id="592" name="Grafikon 5" descr=""/>
                  <p:cNvPicPr/>
                  <p:nvPr/>
                </p:nvPicPr>
                <p:blipFill>
                  <a:blip r:embed="rId4"/>
                  <a:stretch/>
                </p:blipFill>
                <p:spPr>
                  <a:xfrm>
                    <a:off x="1857240" y="1865160"/>
                    <a:ext cx="5573880" cy="3918240"/>
                  </a:xfrm>
                  <a:prstGeom prst="rect">
                    <a:avLst/>
                  </a:prstGeom>
                  <a:ln w="0">
                    <a:noFill/>
                  </a:ln>
                </p:spPr>
              </p:pic>
            </p:oleObj>
          </a:graphicData>
        </a:graphic>
      </p:graphicFrame>
      <p:sp>
        <p:nvSpPr>
          <p:cNvPr id="593"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OBČINSKEGA PRORAČUNA – </a:t>
            </a:r>
            <a:br>
              <a:rPr sz="2500"/>
            </a:br>
            <a:r>
              <a:rPr b="0" lang="sl-SI" sz="2000" spc="-1" strike="noStrike">
                <a:solidFill>
                  <a:srgbClr val="000000"/>
                </a:solidFill>
                <a:latin typeface="Gill Sans MT"/>
              </a:rPr>
              <a:t>OBČINE IVANČNA GORICA</a:t>
            </a:r>
            <a:endParaRPr b="0" lang="en-US" sz="2000" spc="-1" strike="noStrike">
              <a:solidFill>
                <a:srgbClr val="000000"/>
              </a:solidFill>
              <a:latin typeface="Gill Sans MT"/>
            </a:endParaRPr>
          </a:p>
        </p:txBody>
      </p:sp>
    </p:spTree>
  </p:cSld>
  <p:transition spd="slow" advTm="8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95" name="Grafikon 4"/>
          <p:cNvGraphicFramePr/>
          <p:nvPr/>
        </p:nvGraphicFramePr>
        <p:xfrm>
          <a:off x="1042920" y="981000"/>
          <a:ext cx="7662960" cy="5159520"/>
        </p:xfrm>
        <a:graphic>
          <a:graphicData uri="http://schemas.openxmlformats.org/presentationml/2006/ole">
            <p:oleObj progId="Excel.Sheet.12" r:id="rId1" spid="">
              <p:embed/>
              <p:pic>
                <p:nvPicPr>
                  <p:cNvPr id="596"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97" name="Grafikon 5"/>
          <p:cNvGraphicFramePr/>
          <p:nvPr/>
        </p:nvGraphicFramePr>
        <p:xfrm>
          <a:off x="1136520" y="912960"/>
          <a:ext cx="6389640" cy="4797360"/>
        </p:xfrm>
        <a:graphic>
          <a:graphicData uri="http://schemas.openxmlformats.org/presentationml/2006/ole">
            <p:oleObj progId="Excel.Sheet.12" r:id="rId3" spid="">
              <p:embed/>
              <p:pic>
                <p:nvPicPr>
                  <p:cNvPr id="598" name="Grafikon 5" descr=""/>
                  <p:cNvPicPr/>
                  <p:nvPr/>
                </p:nvPicPr>
                <p:blipFill>
                  <a:blip r:embed="rId4"/>
                  <a:stretch/>
                </p:blipFill>
                <p:spPr>
                  <a:xfrm>
                    <a:off x="1136520" y="912960"/>
                    <a:ext cx="6389640" cy="4797360"/>
                  </a:xfrm>
                  <a:prstGeom prst="rect">
                    <a:avLst/>
                  </a:prstGeom>
                  <a:ln w="0">
                    <a:noFill/>
                  </a:ln>
                </p:spPr>
              </p:pic>
            </p:oleObj>
          </a:graphicData>
        </a:graphic>
      </p:graphicFrame>
    </p:spTree>
  </p:cSld>
  <p:transition spd="slow" advTm="8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ravokotnik 2"/>
          <p:cNvSpPr/>
          <p:nvPr/>
        </p:nvSpPr>
        <p:spPr>
          <a:xfrm>
            <a:off x="755640" y="1854360"/>
            <a:ext cx="7777080" cy="52434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mo nabavili osnovna sredstva iz naslednjih vir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občinskega proračuna (občina IV. G.)</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199,60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11.199,60 € nakup kuhinjske opreme za kuhinjo v Višnji Gori; 20.000,00 € nakup opreme v okviru projekta SIO 2020)</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državnega proračuna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0.968,5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učila 7.382,69 €; knjige 2.772,39 €; 1.246,67 € strokovna literatura; 19.566,83 € učbeniki)</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SIO 2020</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6.964,6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esežka preteklih le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000,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šolskega sklad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26,0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lastnih sredst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9,5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Erasmus</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581,25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odarjena pa je bila tudi računalniška oprema v vrednosti 3.700,00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0"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NABAVA OSNOVNIH SREDSTEV</a:t>
            </a:r>
            <a:endParaRPr b="0" lang="en-US" sz="2000" spc="-1" strike="noStrike">
              <a:solidFill>
                <a:srgbClr val="000000"/>
              </a:solidFill>
              <a:latin typeface="Gill Sans MT"/>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ravokotnik 2"/>
          <p:cNvSpPr/>
          <p:nvPr/>
        </p:nvSpPr>
        <p:spPr>
          <a:xfrm>
            <a:off x="826920" y="1773360"/>
            <a:ext cx="7777440" cy="597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Na podlagi Pogodbe o brezplačnem prenosu sredstev v upravljanje in uporabo OŠ Stična, v kateri so navedeni posegi v stavbe – šole, ki jih je izvedla občina direktno preko izvajalcev, smo povečali stanje na nepremičninah v vrednosti 175.152,73 €:</a:t>
            </a:r>
            <a:endParaRPr b="0" lang="en-US" sz="16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387,5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Stičn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979,7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4,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8.893,0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vhoda v šolo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2.566,6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otroškega igrišča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1.808,4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olacija telovadnice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9.226,85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fasad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0.221,8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3.094,7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5.120,0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2" name="PlaceHolder 1"/>
          <p:cNvSpPr>
            <a:spLocks noGrp="1"/>
          </p:cNvSpPr>
          <p:nvPr>
            <p:ph type="title"/>
          </p:nvPr>
        </p:nvSpPr>
        <p:spPr>
          <a:xfrm>
            <a:off x="1442520" y="804600"/>
            <a:ext cx="6224760" cy="46332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POVEČANJE  VREDNOSTI NA NEPREMIČNINAH </a:t>
            </a:r>
            <a:endParaRPr b="0" lang="en-US" sz="2000" spc="-1" strike="noStrike">
              <a:solidFill>
                <a:srgbClr val="000000"/>
              </a:solidFill>
              <a:latin typeface="Gill Sans MT"/>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IZBIRNI PREDMETI</a:t>
            </a:r>
            <a:endParaRPr b="0" lang="en-US" sz="3200" spc="-1" strike="noStrike">
              <a:solidFill>
                <a:srgbClr val="000000"/>
              </a:solidFill>
              <a:latin typeface="Gill Sans MT"/>
            </a:endParaRPr>
          </a:p>
        </p:txBody>
      </p:sp>
      <p:sp>
        <p:nvSpPr>
          <p:cNvPr id="520" name="Pravokotnik 2"/>
          <p:cNvSpPr/>
          <p:nvPr/>
        </p:nvSpPr>
        <p:spPr>
          <a:xfrm>
            <a:off x="1116000" y="2274840"/>
            <a:ext cx="7343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000000"/>
                </a:solidFill>
                <a:latin typeface="Calibri"/>
                <a:ea typeface="Times New Roman"/>
              </a:rPr>
              <a:t>V šolskem letu 2018/19 izvajamo na matični šoli pouk 21 obveznih izbirnih predmetov v 24 učnih skupinah (1 skupina v oddelku osnovne šole s prilagojenim programom z nižjim izobrazbenim standardom), na podružnični šoli Višnja Gora 10 izbirnih predmetov v 12 učnih skupinah in na podružnični šoli Zagradec 14 izbirnih predmetov v 18 učnih skupinah.</a:t>
            </a:r>
            <a:endParaRPr b="0" lang="en-US" sz="2400" spc="-1" strike="noStrike">
              <a:solidFill>
                <a:srgbClr val="000000"/>
              </a:solidFill>
              <a:latin typeface="Gill Sans MT"/>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NEOBVEZNI IZBIRNI PREDMETI</a:t>
            </a:r>
            <a:endParaRPr b="0" lang="en-US" sz="3200" spc="-1" strike="noStrike">
              <a:solidFill>
                <a:srgbClr val="000000"/>
              </a:solidFill>
              <a:latin typeface="Gill Sans MT"/>
            </a:endParaRPr>
          </a:p>
        </p:txBody>
      </p:sp>
      <p:sp>
        <p:nvSpPr>
          <p:cNvPr id="522" name="Pravokotnik 2"/>
          <p:cNvSpPr/>
          <p:nvPr/>
        </p:nvSpPr>
        <p:spPr>
          <a:xfrm>
            <a:off x="971640" y="220500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čenci 1. razreda ter drugega in tretjega triletja se lahko vključijo k pouku neobveznih izbirnih predmetov. Vključitev je prostovoljna in če se učenci vanje vključijo, jih morajo obiskovati do konca pouka v tekočem šolskem letu. Predmeti so ocenjeni.</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1. razredu smo učencem ponudili pouk prvega tujega jezika – angleščine, v 4., 5. in 6. razredu pouk drugega tujega jezika – nemščine ter neobvezni izbirni predmet šport (na matični šoli ter na podružničnih šolah Višnja Gora in Zagradec), v 7., 8. in 9. razredu pa pouk drugega tujega jezika – francoščine.</a:t>
            </a:r>
            <a:endParaRPr b="0" lang="en-US" sz="1800" spc="-1" strike="noStrike">
              <a:solidFill>
                <a:srgbClr val="000000"/>
              </a:solidFill>
              <a:latin typeface="Gill Sans MT"/>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03280" y="793440"/>
            <a:ext cx="657216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a:ea typeface="Times New Roman"/>
              </a:rPr>
              <a:t>DELO V MANJŠIH UČNIH SKUPINAH</a:t>
            </a:r>
            <a:br>
              <a:rPr sz="3200"/>
            </a:br>
            <a:endParaRPr b="0" lang="en-US" sz="3200" spc="-1" strike="noStrike">
              <a:solidFill>
                <a:srgbClr val="000000"/>
              </a:solidFill>
              <a:latin typeface="Gill Sans MT"/>
            </a:endParaRPr>
          </a:p>
        </p:txBody>
      </p:sp>
      <p:sp>
        <p:nvSpPr>
          <p:cNvPr id="524" name="Pravokotnik 2"/>
          <p:cNvSpPr/>
          <p:nvPr/>
        </p:nvSpPr>
        <p:spPr>
          <a:xfrm>
            <a:off x="324000" y="2060640"/>
            <a:ext cx="8351640" cy="363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40. člen Zakona o osnovni šol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Učitelj od 1. do 9. razreda pri pouku in pri drugih oblikah organiziranega dela diferencira delo z učenci glede na njihove zmožnost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4., 5., 6. in 7. razredu se pri slovenščini in italijanščini ali madžarščini na narodno mešanih območjih ter pri matema­tiki in tujem jeziku lahko pouk v obsegu največ ene četrtine ur, namenjenih tem predmetom, organizira v manjših učnih skupinah. Pouk v manjših učnih skupinah se v 4. razredu začne izvajati v mesecu aprilu.</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8. in 9. razredu se pri slovenščini in italijanščini ali madžarščini na narodno mešanih območjih ter pri matematiki in tujem jeziku lahko pouk vse leto organizira z razporeditvijo učencev v manjše učne skupine.</a:t>
            </a:r>
            <a:endParaRPr b="0" lang="en-US" sz="2000" spc="-1" strike="noStrike">
              <a:solidFill>
                <a:srgbClr val="000000"/>
              </a:solidFill>
              <a:latin typeface="Gill Sans MT"/>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ravokotnik 3"/>
          <p:cNvSpPr/>
          <p:nvPr/>
        </p:nvSpPr>
        <p:spPr>
          <a:xfrm>
            <a:off x="826920" y="620640"/>
            <a:ext cx="7777440" cy="5139720"/>
          </a:xfrm>
          <a:prstGeom prst="rect">
            <a:avLst/>
          </a:prstGeom>
          <a:noFill/>
          <a:ln w="0">
            <a:noFill/>
          </a:ln>
        </p:spPr>
        <p:style>
          <a:lnRef idx="0"/>
          <a:fillRef idx="0"/>
          <a:effectRef idx="0"/>
          <a:fontRef idx="minor"/>
        </p:style>
        <p:txBody>
          <a:bodyPr lIns="90000" rIns="90000" tIns="46800" bIns="46800" anchor="t">
            <a:spAutoFit/>
          </a:bodyPr>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RAZŠIRJENI PROGRAM</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podaljšano bivanje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jutranje varstvo</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šola v narav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dodatni/dopolnilni pouk</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3,21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interesne dejavnost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9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SKUPAJ</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100,66 %</a:t>
            </a:r>
            <a:endParaRPr b="0" lang="en-US" sz="3600" spc="-1" strike="noStrike">
              <a:solidFill>
                <a:srgbClr val="000000"/>
              </a:solidFill>
              <a:latin typeface="Gill Sans MT"/>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ravokotnik 2"/>
          <p:cNvSpPr/>
          <p:nvPr/>
        </p:nvSpPr>
        <p:spPr>
          <a:xfrm>
            <a:off x="971640" y="1268280"/>
            <a:ext cx="7272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OBISK</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dodatni/dopolnilni pouk</a:t>
            </a:r>
            <a:r>
              <a:rPr b="0" lang="pl-PL" sz="3200" spc="-1" strike="noStrike">
                <a:solidFill>
                  <a:srgbClr val="000000"/>
                </a:solidFill>
                <a:latin typeface="Gill Sans MT"/>
              </a:rPr>
              <a:t>	</a:t>
            </a:r>
            <a:r>
              <a:rPr b="0" lang="pl-PL" sz="3200" spc="-1" strike="noStrike">
                <a:solidFill>
                  <a:srgbClr val="000000"/>
                </a:solidFill>
                <a:latin typeface="Gill Sans MT"/>
              </a:rPr>
              <a:t>  97,78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interesne dejavnosti</a:t>
            </a:r>
            <a:r>
              <a:rPr b="0" lang="pl-PL" sz="3200" spc="-1" strike="noStrike">
                <a:solidFill>
                  <a:srgbClr val="000000"/>
                </a:solidFill>
                <a:latin typeface="Gill Sans MT"/>
              </a:rPr>
              <a:t>	</a:t>
            </a:r>
            <a:r>
              <a:rPr b="0" lang="pl-PL" sz="3200" spc="-1" strike="noStrike">
                <a:solidFill>
                  <a:srgbClr val="000000"/>
                </a:solidFill>
                <a:latin typeface="Gill Sans MT"/>
              </a:rPr>
              <a:t>	</a:t>
            </a:r>
            <a:r>
              <a:rPr b="0" lang="pl-PL" sz="3200" spc="-1" strike="noStrike">
                <a:solidFill>
                  <a:srgbClr val="000000"/>
                </a:solidFill>
                <a:latin typeface="Gill Sans MT"/>
              </a:rPr>
              <a:t>  91,07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SKUPAJ</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94,43 %</a:t>
            </a:r>
            <a:endParaRPr b="0" lang="en-US" sz="3200" spc="-1" strike="noStrike">
              <a:solidFill>
                <a:srgbClr val="000000"/>
              </a:solidFill>
              <a:latin typeface="Gill Sans MT"/>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8"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PREGLEDI ŠOLE</a:t>
            </a:r>
            <a:endParaRPr b="0" lang="en-US" sz="4000" spc="-1" strike="noStrike">
              <a:solidFill>
                <a:srgbClr val="000000"/>
              </a:solidFill>
              <a:latin typeface="Gill Sans MT"/>
            </a:endParaRPr>
          </a:p>
        </p:txBody>
      </p:sp>
      <p:sp>
        <p:nvSpPr>
          <p:cNvPr id="529" name="PoljeZBesedilom 3"/>
          <p:cNvSpPr/>
          <p:nvPr/>
        </p:nvSpPr>
        <p:spPr>
          <a:xfrm>
            <a:off x="250920" y="1413000"/>
            <a:ext cx="8785080" cy="48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300" spc="-1" strike="noStrike">
                <a:solidFill>
                  <a:srgbClr val="fa2b5c"/>
                </a:solidFill>
                <a:latin typeface="Calibri"/>
                <a:ea typeface="Verdana"/>
              </a:rPr>
              <a:t>V letu 2018 so opravili sledeče strokovne preglede šolskih kuhinj:</a:t>
            </a:r>
            <a:endParaRPr b="0" lang="en-US" sz="23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o opravili sledeče strokovne preglede šolskih kuhinj:</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7. 03. 2018 v Višnji Gor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v Stičn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na matični šol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Krk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Muljav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5. 10. 2018 v Zagradcu</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8. 12. 2018 na matični šoli</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Z Nacionalnim laboratorijem za zdravje, okolje in hrano </a:t>
            </a:r>
            <a:r>
              <a:rPr b="0" lang="sl-SI" sz="1800" spc="-1" strike="noStrike">
                <a:solidFill>
                  <a:srgbClr val="000000"/>
                </a:solidFill>
                <a:latin typeface="Calibri"/>
                <a:ea typeface="Times New Roman"/>
              </a:rPr>
              <a:t>Maribor imamo sklenjeno pogodbo za opravljanje </a:t>
            </a:r>
            <a:r>
              <a:rPr b="1" lang="sl-SI" sz="1800" spc="-1" strike="noStrike">
                <a:solidFill>
                  <a:srgbClr val="000000"/>
                </a:solidFill>
                <a:latin typeface="Calibri"/>
                <a:ea typeface="Times New Roman"/>
              </a:rPr>
              <a:t>zdravstveno-higienskih pregledov </a:t>
            </a:r>
            <a:r>
              <a:rPr b="0" lang="sl-SI" sz="1800" spc="-1" strike="noStrike">
                <a:solidFill>
                  <a:srgbClr val="000000"/>
                </a:solidFill>
                <a:latin typeface="Calibri"/>
                <a:ea typeface="Times New Roman"/>
              </a:rPr>
              <a:t>kuhinj, skladiščnih prostorov, osebja in preverjanja evidenc notranjega nadzora HACCP.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 vsakem pregledu odvzamejo tudi vzorce živil pripravljenih obrokov ter brise kuhinjskih površin, posode in pribora za mikrobiološke preiskave.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9-06-17T06:33:15Z</dcterms:modified>
  <cp:revision>139</cp:revision>
  <dc:subject/>
  <dc:title>POROČILO  o realizaciji LDN za  šol. l. 2010/2011</dc:title>
</cp:coreProperties>
</file>